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F279A-D1FC-4AB2-8A4B-6AF407C1B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10CDB-D608-4E45-9473-833EFCCE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FE71C-CABD-4570-BC28-B87E4A515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7F0B-ED19-4F91-B2F8-8E162083A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BF9B1-7FFB-4026-9866-D658EA473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37BF-080F-486D-B7AB-3F2DB8EF8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B2BF7-9D9D-4944-83DA-3A4F5819C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82E78-BFDF-40E1-8F0E-62AA57311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00927-3FB9-47FF-A24B-9109681CA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0617-4AF7-4D13-A6BF-ED9337C8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9494B-FDEF-4E32-ABCF-C3BA16D35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98B2-885E-43CA-A885-EEA4AD378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BB6E-01D1-4C1D-8EDB-0059544882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Guerra de los Mundos</a:t>
            </a:r>
            <a:br>
              <a:rPr sz="4400"/>
            </a:br>
            <a:r>
              <a:rPr b="0" lang="es-MX" sz="1800" spc="-1" strike="noStrike">
                <a:solidFill>
                  <a:srgbClr val="000000"/>
                </a:solidFill>
                <a:latin typeface="Arial"/>
              </a:rPr>
              <a:t>Magdalena del Rocío Orozco Quintero.</a:t>
            </a:r>
            <a:r>
              <a:rPr b="0" lang="es-MX"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403280" y="62064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Cómo funciono el expression on controversial topic en la gente que escuchó el programa?</a:t>
            </a:r>
            <a:endParaRPr b="0" lang="en-US" sz="1800" spc="-1" strike="noStrike">
              <a:solidFill>
                <a:srgbClr val="000000"/>
              </a:solidFill>
              <a:latin typeface="Arial"/>
            </a:endParaRPr>
          </a:p>
        </p:txBody>
      </p:sp>
      <p:sp>
        <p:nvSpPr>
          <p:cNvPr id="43" name="PlaceHolder 1"/>
          <p:cNvSpPr>
            <a:spLocks noGrp="1"/>
          </p:cNvSpPr>
          <p:nvPr>
            <p:ph type="title"/>
          </p:nvPr>
        </p:nvSpPr>
        <p:spPr>
          <a:xfrm>
            <a:off x="395280" y="220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personas que escucharon la grabación creían todo  que la radio les estaba comunicando porque para ellos es verdad lo que en los medios de comunicación transmite aparte por que los locutores eran personas muy respetadas y contaba con un gran veracidad al momento de dar sus no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ómo funcionó el expression of an attitude? </a:t>
            </a:r>
            <a:endParaRPr b="0" lang="en-US" sz="4000" spc="-1" strike="noStrike">
              <a:solidFill>
                <a:srgbClr val="000000"/>
              </a:solidFill>
              <a:latin typeface="Arial"/>
            </a:endParaRPr>
          </a:p>
        </p:txBody>
      </p:sp>
      <p:sp>
        <p:nvSpPr>
          <p:cNvPr id="45" name=""/>
          <p:cNvSpPr/>
          <p:nvPr/>
        </p:nvSpPr>
        <p:spPr>
          <a:xfrm>
            <a:off x="1116000" y="1989000"/>
            <a:ext cx="727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258920" y="2205000"/>
            <a:ext cx="5329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s personas van generando en forma su propio criterio sobre los medios de comunicación ya que narra con detalle cada noticia para que el oyente tenga una mejor actitud  en su manera de pens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ómo funcionó el attitude? </a:t>
            </a:r>
            <a:endParaRPr b="0" lang="en-US" sz="4400" spc="-1" strike="noStrike">
              <a:solidFill>
                <a:srgbClr val="000000"/>
              </a:solidFill>
              <a:latin typeface="Arial"/>
            </a:endParaRPr>
          </a:p>
        </p:txBody>
      </p:sp>
      <p:sp>
        <p:nvSpPr>
          <p:cNvPr id="48" name="PlaceHolder 2"/>
          <p:cNvSpPr>
            <a:spLocks noGrp="1"/>
          </p:cNvSpPr>
          <p:nvPr>
            <p:ph/>
          </p:nvPr>
        </p:nvSpPr>
        <p:spPr>
          <a:xfrm>
            <a:off x="1186920" y="1988640"/>
            <a:ext cx="6985080" cy="2592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Las personas van generando una manera deber las cosas como se las planean ciertos medios de comunicación y se generan actitudes positivas o negativas según sea el caso.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Una actitud </a:t>
            </a:r>
            <a:r>
              <a:rPr b="0" lang="es-ES" sz="1600" spc="-1" strike="noStrike">
                <a:solidFill>
                  <a:srgbClr val="000000"/>
                </a:solidFill>
                <a:latin typeface="Arial"/>
              </a:rPr>
              <a:t>se refiere a un sentimiento a favor o en contra de un objeto social, el cual puede ser una persona, un hecho social, o cualquier producto de la actividad humana a la que se presen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En este caso a la invasión de los marciano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a un ejemplo de las tres partes del postulado expresadas en la pregunta anterior que hayas detectado en algún asunto que haya sido discutido en la opinión pública. </a:t>
            </a:r>
            <a:br>
              <a:rPr sz="1800"/>
            </a:br>
            <a:br>
              <a:rPr sz="1800"/>
            </a:br>
            <a:r>
              <a:rPr b="0" lang="en-US" sz="1800" spc="-1" strike="noStrike">
                <a:solidFill>
                  <a:srgbClr val="000000"/>
                </a:solidFill>
                <a:latin typeface="Arial"/>
              </a:rPr>
              <a:t>Ejemplo: el caso de la guardería de Sonora que se incendió. </a:t>
            </a:r>
            <a:br>
              <a:rPr sz="1800"/>
            </a:br>
            <a:br>
              <a:rPr sz="1800"/>
            </a:br>
            <a:br>
              <a:rPr sz="1800"/>
            </a:br>
            <a:r>
              <a:rPr b="0" lang="en-US" sz="1800" spc="-1" strike="noStrike">
                <a:solidFill>
                  <a:srgbClr val="000000"/>
                </a:solidFill>
                <a:latin typeface="Arial"/>
              </a:rPr>
              <a:t>A lo largo del tiempo se ha presentado muchos caso en los cual es las personas van generando</a:t>
            </a:r>
            <a:r>
              <a:rPr b="0" lang="en-US" sz="1600" spc="-1" strike="noStrike">
                <a:solidFill>
                  <a:srgbClr val="000000"/>
                </a:solidFill>
                <a:latin typeface="Arial"/>
              </a:rPr>
              <a:t> su propio opinión sobre los hechos transcurridos en nuestro país un ejemplo de esto son las campañas políticas que con tal ve vender el candidato que promueven son capases de emitir propagando sucia sobre el opositor para así poder salir triunfadores de esta elección. Y con esto generan entre los ciudadanos un mala actitud sobre sus candidatos de manera sutil opacan la imagen de aquella person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22:54:51Z</dcterms:created>
  <dc:creator>WinuE</dc:creator>
  <dc:description/>
  <dc:language>en-US</dc:language>
  <cp:lastModifiedBy>WinuE</cp:lastModifiedBy>
  <dcterms:modified xsi:type="dcterms:W3CDTF">2009-09-27T00:23:41Z</dcterms:modified>
  <cp:revision>4</cp:revision>
  <dc:subject/>
  <dc:title>Guerra de los Mundos</dc:title>
</cp:coreProperties>
</file>